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FFDC-8CD6-4A30-80B8-9A2A6644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EA5-BE77-49E5-A173-6609D763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48A-2746-45B0-A230-08368026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056-1E28-4E41-991F-49863460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83CE-6607-4D1A-94F0-539D080C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76CB-9202-42A9-9BF4-251335CC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569A-BFC1-4628-BED2-CCCF3177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72D-CD63-40EB-8608-C35AD4C1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D437-CF9F-418C-9E5F-E126A2A7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76F5-5A6A-427E-AE7B-49D938F5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7C2F-33A7-4DD1-B30C-594166B7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4B1-ED70-43B1-A309-3AEA1E82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63AC-5F42-4D14-8EAC-D2F1805F37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b18d6"/>
                </a:solidFill>
                <a:latin typeface="Calibri"/>
              </a:rPr>
              <a:t>Решение нестандартных задач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учитель математи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Елаш Надежда Евгенье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МБОУ «Школа № 7 «Русская классическая школа» города Рязан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b18d6"/>
                </a:solidFill>
                <a:latin typeface="Calibri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b18d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b18d6"/>
                </a:solidFill>
                <a:latin typeface="Calibri"/>
              </a:rPr>
              <a:t>Натуральное число умножили на сумму его цифр и в итоге получили 1000. Каким могло быть исходное чис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9b18d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b18d6"/>
                </a:solidFill>
                <a:latin typeface="Calibri"/>
              </a:rPr>
              <a:t>Квадрат содержит 16 клеток. Разделите квадрат на две равные части так, чтобы линия разреза шла по  сторонам клеток. Укажите четыре различных решения этой зад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развитие познавательного интереса к математик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развитие логического мышл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применение имеющихся знаний при решении нестандартных зада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7851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70c0"/>
                </a:solidFill>
                <a:latin typeface="Calibri"/>
              </a:rPr>
              <a:t>Размин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4200" y="1785600"/>
            <a:ext cx="8102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    Представьте число 81 в виде двух равных  множи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вет: 81 = 9∙9; 81 = - 9 ∙(-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  Угадайте корень уравнения х² = х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вет: 0;1.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 Вставьте недостающее число, используя правило нахождения числа стоящего в средней клетке первой стро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)   2,3 – 0,8 = 1,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)    2,2 – 1,7 =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,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вет: 0,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214280" y="5000760"/>
          <a:ext cx="2988000" cy="1272960"/>
        </p:xfrm>
        <a:graphic>
          <a:graphicData uri="http://schemas.openxmlformats.org/drawingml/2006/table">
            <a:tbl>
              <a:tblPr/>
              <a:tblGrid>
                <a:gridCol w="995400"/>
                <a:gridCol w="995400"/>
                <a:gridCol w="997200"/>
              </a:tblGrid>
              <a:tr h="64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,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,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,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,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4ed"/>
                    </a:solidFill>
                  </a:tcPr>
                </a:tc>
              </a:tr>
            </a:tbl>
          </a:graphicData>
        </a:graphic>
      </p:graphicFrame>
      <p:sp>
        <p:nvSpPr>
          <p:cNvPr id="48" name="TextBox 5"/>
          <p:cNvSpPr/>
          <p:nvPr/>
        </p:nvSpPr>
        <p:spPr>
          <a:xfrm>
            <a:off x="2357280" y="5643720"/>
            <a:ext cx="10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501040" cy="59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9b18d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18d6"/>
                </a:solidFill>
                <a:latin typeface="Calibri"/>
              </a:rPr>
              <a:t>Верёвку сложили пополам, затем ещё раз пополам, ещё раз пополам и ещё раз пополам. Сложенную таким образом верёвку перерезали поперёк ножницами, в результате чего она распалась на несколько частей. Сколько всего получилось часте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K:\для презентации\надо.jpg"/>
          <p:cNvPicPr/>
          <p:nvPr/>
        </p:nvPicPr>
        <p:blipFill>
          <a:blip r:embed="rId1"/>
          <a:stretch/>
        </p:blipFill>
        <p:spPr>
          <a:xfrm>
            <a:off x="5000760" y="5286240"/>
            <a:ext cx="2017440" cy="12859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0a033d6b7138e66f2033a6656325c285.jpeg"/>
          <p:cNvPicPr/>
          <p:nvPr/>
        </p:nvPicPr>
        <p:blipFill>
          <a:blip r:embed="rId2"/>
          <a:stretch/>
        </p:blipFill>
        <p:spPr>
          <a:xfrm rot="10800000">
            <a:off x="4500720" y="5446800"/>
            <a:ext cx="1768320" cy="1411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8286840" cy="45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                              </a:t>
            </a: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Решение.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Если верёвку сложить четыре раза пополам, то получим</a:t>
            </a:r>
            <a:r>
              <a:rPr b="1" lang="ru-RU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16</a:t>
            </a:r>
            <a:r>
              <a:rPr b="1" lang="ru-RU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лоёв. Перерезав сложенную таким образом верёвку, получим с одной стороны разреза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8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частей (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16 : 2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), а с другой –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9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частей  ( (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14 : 2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+ 2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).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Итого имеем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17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частей (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8 + 9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) .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твет: верёвка распадётся на 17 час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240" y="4857480"/>
            <a:ext cx="534348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777240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18d6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9b18d6"/>
                </a:solidFill>
                <a:latin typeface="Calibri"/>
              </a:rPr>
              <a:t>. </a:t>
            </a:r>
            <a:r>
              <a:rPr b="1" lang="en-US" sz="4000" spc="-1" strike="noStrike">
                <a:solidFill>
                  <a:srgbClr val="9b18d6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9b18d6"/>
                </a:solidFill>
                <a:latin typeface="Calibri"/>
              </a:rPr>
              <a:t>В магазине имеются на равную сумму конфеты по 20 рублей за килограмм и конфеты по 30 рублей за килограмм. По какой цене следует продавать смесь этих конфе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Рисунок 6" descr="конфеты.jpg"/>
          <p:cNvPicPr/>
          <p:nvPr/>
        </p:nvPicPr>
        <p:blipFill>
          <a:blip r:embed="rId1"/>
          <a:stretch/>
        </p:blipFill>
        <p:spPr>
          <a:xfrm>
            <a:off x="4035600" y="4143240"/>
            <a:ext cx="2893680" cy="1930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Решени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Так как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ОК(20,30) = 60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, то конфет каждого сорта возьмём на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60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рублей. Тогда конфет одного сорта имеем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3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кг (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60:20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), а конфет другого сорта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кг (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60:30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), всего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5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кг на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120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рублей. Значит, продавать их следует по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24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рубля за килограмм (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120:5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твет: 24 рубля.                 </a:t>
            </a: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760" y="500040"/>
            <a:ext cx="84722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18d6"/>
                </a:solidFill>
                <a:latin typeface="Calibri"/>
              </a:rPr>
              <a:t>3. </a:t>
            </a:r>
            <a:r>
              <a:rPr b="1" lang="en-US" sz="4000" spc="-1" strike="noStrike">
                <a:solidFill>
                  <a:srgbClr val="9b18d6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9b18d6"/>
                </a:solidFill>
                <a:latin typeface="Calibri"/>
              </a:rPr>
              <a:t>7рыжих и 6 чёрных тараканов съедают пирожное в два раза быстрее, чем 4 рыжих и 2 чёрных. Кто ест быстрее: чёрный таракан или рыжи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таракан1.gif"/>
          <p:cNvPicPr/>
          <p:nvPr/>
        </p:nvPicPr>
        <p:blipFill>
          <a:blip r:embed="rId1"/>
          <a:stretch/>
        </p:blipFill>
        <p:spPr>
          <a:xfrm>
            <a:off x="3929040" y="3714840"/>
            <a:ext cx="1582920" cy="2928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таракан1.gif"/>
          <p:cNvPicPr/>
          <p:nvPr/>
        </p:nvPicPr>
        <p:blipFill>
          <a:blip r:embed="rId2"/>
          <a:stretch/>
        </p:blipFill>
        <p:spPr>
          <a:xfrm>
            <a:off x="5214960" y="3786120"/>
            <a:ext cx="1357200" cy="251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Так как 4 рыжих таракана и 2 чёрных съедают пирожное в 2 раза медленнее, тогда </a:t>
            </a: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8 рыжих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тараканов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чёрных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ъедают пирожное за такое же время, что  </a:t>
            </a: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7 рыжих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тараканов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 чёрных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. Имеем, что  </a:t>
            </a: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1 рыжий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8 - 7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) таракан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чёрных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 - 4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) таракана не изменяют общей скорости поедания пирожного. То есть</a:t>
            </a:r>
            <a:r>
              <a:rPr b="1" lang="ru-RU" sz="3200" spc="-1" strike="noStrike">
                <a:solidFill>
                  <a:srgbClr val="f79646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1 рыжий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таракан ест в два раза быстре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чёрного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твет: рыжий таракан ест быстр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0-21T13:51:57Z</dcterms:modified>
  <cp:revision>51</cp:revision>
  <dc:subject/>
  <dc:title>Решение нестандартных задач</dc:title>
</cp:coreProperties>
</file>